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08C1-28C5-4F02-BA8E-25C00344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EC6E-285D-424E-9AC8-B4063C0A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88F-5A53-444A-8C0F-01DE3DE2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4CF7-DD35-466D-B4C5-22865C6B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401-8402-4AEC-8856-923FFC40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B60-D381-46A6-919B-26F83944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010-7760-47AC-AFAA-D4964352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CF5F-5A6D-47A4-A79D-5BEC5E31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AA2D-1D14-4EB2-A749-04F1A963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ED0-F11F-459A-A460-401A90BA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A1F-1076-436C-8E54-C0A56A52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929B-A713-4EAA-BAA4-D8AA2D4D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E3D8-9E7E-4B63-8ABA-46D081B33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"/><Relationship Id="rId8" Type="http://schemas.openxmlformats.org/officeDocument/2006/relationships/slide" Target="slide19.xml"/><Relationship Id="rId9" Type="http://schemas.openxmlformats.org/officeDocument/2006/relationships/slide" Target=""/><Relationship Id="rId10" Type="http://schemas.openxmlformats.org/officeDocument/2006/relationships/slide" Target="slide21.xml"/><Relationship Id="rId11" Type="http://schemas.openxmlformats.org/officeDocument/2006/relationships/slide" Target=""/><Relationship Id="rId12" Type="http://schemas.openxmlformats.org/officeDocument/2006/relationships/slide" Target="slide23.xml"/><Relationship Id="rId13" Type="http://schemas.openxmlformats.org/officeDocument/2006/relationships/slide" Target=""/><Relationship Id="rId14" Type="http://schemas.openxmlformats.org/officeDocument/2006/relationships/slide" Target="slide25.xml"/><Relationship Id="rId15" Type="http://schemas.openxmlformats.org/officeDocument/2006/relationships/slide" Target=""/><Relationship Id="rId16" Type="http://schemas.openxmlformats.org/officeDocument/2006/relationships/slide" Target="slide27.xml"/><Relationship Id="rId17" Type="http://schemas.openxmlformats.org/officeDocument/2006/relationships/slide" Target=""/><Relationship Id="rId18" Type="http://schemas.openxmlformats.org/officeDocument/2006/relationships/slide" Target="slide29.xml"/><Relationship Id="rId19" Type="http://schemas.openxmlformats.org/officeDocument/2006/relationships/slide" Target=""/><Relationship Id="rId20" Type="http://schemas.openxmlformats.org/officeDocument/2006/relationships/slide" Target="slide31.xml"/><Relationship Id="rId21" Type="http://schemas.openxmlformats.org/officeDocument/2006/relationships/slide" Target=""/><Relationship Id="rId22" Type="http://schemas.openxmlformats.org/officeDocument/2006/relationships/slide" Target="slide33.xml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" Target=""/><Relationship Id="rId37" Type="http://schemas.openxmlformats.org/officeDocument/2006/relationships/slide" Target=""/><Relationship Id="rId38" Type="http://schemas.openxmlformats.org/officeDocument/2006/relationships/slide" Target=""/><Relationship Id="rId39" Type="http://schemas.openxmlformats.org/officeDocument/2006/relationships/slide" Target=""/><Relationship Id="rId40" Type="http://schemas.openxmlformats.org/officeDocument/2006/relationships/slide" Target="slide69.xml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687-8C4D-46A3-B756-9921CD3AC20E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5909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What is a wind vane or weather van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FCB-CD06-4054-801E-B68B98B74B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152388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is is used to measure precipit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454B-968C-4723-8206-325A81481B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289476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 rain gaug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9013-7645-478D-9F28-E7881437A4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19320" y="182880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It is used to measure the temperature of the ai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EE5-6970-4A8F-A09F-C3AE87EBDA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513880"/>
            <a:ext cx="769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 thermomet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D57B-E10B-45B8-8B17-D8A00771DE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190512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is instrument is used to measure air pressur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2AC-C9D8-4B6C-945D-EE2453356D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2361240"/>
            <a:ext cx="502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 baromet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CDF-E8D3-4C63-B227-63C38BA2A9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90720" y="23623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is instrument measures wind spe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0C1C-CC09-4794-A857-269C099EE3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55996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n anemomet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221-F4B5-4804-923F-279BF03C5E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182880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boundary between air masses of different temperature and humidit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9FE3-9A3F-4BE6-B5B4-EA0CB60C99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14400" y="2057400"/>
            <a:ext cx="73152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015-BD35-4498-ADCF-605E0AF997FC}" type="slidenum">
              <a:t>2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38520" y="2926440"/>
            <a:ext cx="549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 fron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DC65-0444-4778-A183-FB54324FF2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1447920"/>
            <a:ext cx="7315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is is due to the weight of the air and is determined by several factors including the temperature of the air and is measured with a barome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F4D1-2381-45CC-84C5-5F332DEE5C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00080" y="2926440"/>
            <a:ext cx="718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ir pressur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53B4-9125-4F5E-91D6-F1EE003FDF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1219320"/>
            <a:ext cx="7315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is is the amount of heat energy in the atmosphere that is measured by a thermomet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70F4-618F-41CE-BB4F-3FEA3F237F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77000" y="2469240"/>
            <a:ext cx="462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th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temperatur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B672-03DE-4A98-A1E0-9C471C9334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152388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amount of water vapor in the air usually measured with a hygromet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AD9-A35D-4084-A64E-D57B9066BE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67000" y="292644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humidity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1C88-FFFC-40FD-AFFF-B83B609B94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205740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weather an area experiences over an extended period of tim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B9EE-A7C6-48C0-BE17-085C6E3951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8600" y="2926440"/>
            <a:ext cx="564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climat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CA2-ADAC-449F-A0E3-6C786EE1488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19320" y="990720"/>
            <a:ext cx="7010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continuous movement of water from water sources from the ground to the air and back to the ground to water sourc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A06-C414-4436-80F7-2E422FC5CA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143000" y="1371600"/>
            <a:ext cx="73152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r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C02D-FABA-4C1B-B0A4-B99FAAD6582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2469240"/>
            <a:ext cx="77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the water cycl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4B5-38E6-4DB0-B9DC-0D4B0BED287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167652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 collection of millions of tiny water droplets or ice crystal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012A-4EDA-40A6-AF6A-C846E653A9B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70840" y="2926440"/>
            <a:ext cx="562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 cloud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5350-5443-4B33-A114-F391AC2BDA6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0720" y="251460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ny form of water that falls from the clouds to the groun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B577-CC4A-41BE-BDD4-BAF5B2F1E05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8240" y="2469240"/>
            <a:ext cx="475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precipitation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97A-BE98-4D49-B6F2-40DBF5A38F2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4400" y="21337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en water changes from a liquid to a ga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E8F0-5832-4F73-93DD-ABB24ECD15B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46780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evaporation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376-C82D-4AD0-907E-D0E28C0CA1C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205740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en water changes from a gas back to a liquid to form a clou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B73E-E19F-423A-976F-C9AC2207F9C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61800" y="2467800"/>
            <a:ext cx="483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condensation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D9D-4A53-400B-BA29-8CA9087EBB9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9320" y="167652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 large violent storm accompanied by strong winds and, usually, heavy rain.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F64-2ABB-4522-AE3C-2D55C2BF3E3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523880" y="1752480"/>
            <a:ext cx="59436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yc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C41-CFA1-4224-A73F-ECBFB2106CD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0920" y="2926440"/>
            <a:ext cx="70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 hurrican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3441-F39E-48B9-8DD1-9C4DCEC2AC5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295280"/>
            <a:ext cx="7315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 storm that produces lightning and thunder and often heavy rain and strong winds.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FB6-AB0E-48CE-953B-1B3FD44D4C7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2469240"/>
            <a:ext cx="769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 thunderstorm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BE0-4C44-4B95-AD18-8FCF6FDA483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19320" y="1371600"/>
            <a:ext cx="647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 violent, funnel-shaped storm of spinning wind.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0FF-B151-4751-BA58-80B6BC2092A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20200" y="2818440"/>
            <a:ext cx="642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 tornado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FED-FDD0-436C-A924-F284A4A118A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2120" y="1219320"/>
            <a:ext cx="7315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Sound that results from the rapid expansion of air along with a lightning strik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7D3-E0CF-4BF2-A2D9-CF047453F00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292500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What is thund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1D7E-C428-4646-84C9-22F7707204B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4400" y="243828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Cumulo-nimbus clouds usually produce thes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7FA-2BC6-4599-A573-047D2544123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46924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are thunder storm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285-29EE-4DA2-8074-556AB9CF22A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9144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Fluffy, white clouds with flat bottom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666880" y="3124080"/>
            <a:ext cx="3902040" cy="312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8B8-28B4-4CA0-9635-44260314D61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2590920"/>
            <a:ext cx="71625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or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072-BC76-436E-9EB4-DA06AD6F6EF3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46924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are cumulus cloud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DAAA-947C-40D3-87AA-9E32D3903CC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9144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Feathery clouds associated with fair weath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191120" y="2895480"/>
            <a:ext cx="4424400" cy="328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6FC-5490-43A8-AFAD-E53B1DCB982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246924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are cirrus cloud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8C6-F37F-424B-BD24-C8E847B8C25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0720" y="1219320"/>
            <a:ext cx="7315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se clouds are smooth gray clouds that cover the whole sky and usually bring a light rain or drizz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B499-5B2D-4E01-ACD9-304A950C46F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246924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are stratus cloud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73A-747E-44C6-9C86-73C0176758D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38080" y="914400"/>
            <a:ext cx="73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lthough these are fair weather clouds, they often indicate that rain or snow will fall within several hour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BD8D-D173-4289-923E-40B1D81DE66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469240"/>
            <a:ext cx="776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are cirrus cloud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489-1A03-4877-A7D7-30921B9BEBB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838080"/>
            <a:ext cx="7315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ese large clouds with dark bottoms often produce thunderstorm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76720" y="3276720"/>
            <a:ext cx="2879640" cy="31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205-21E1-4A51-B94E-7A6B70EF476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1828080"/>
            <a:ext cx="716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ar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cumulo-nimbus cloud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9F63-35B3-44DD-B08D-232CDBA887C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14400" y="1523880"/>
            <a:ext cx="7315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 large body of air that has about the same temperature, air pressure, and moisture through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1DC-DE6D-45E6-899F-5A43B174BA7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447920" y="2590920"/>
            <a:ext cx="60195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ou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5E5-AB89-4CA1-BCD7-8438D3F3E908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92240" y="2926440"/>
            <a:ext cx="700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n air mas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1D6-BCC6-45D1-98E6-6303802D773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66680" y="1676520"/>
            <a:ext cx="7315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e leading edge of a cold air mass that forms as the cold air mass moves into a warm air mass.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F1F-D450-4464-9095-F3D2D8BE0AE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76320" y="2926440"/>
            <a:ext cx="723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 cold front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A9C7-7461-4542-9001-C8A46BA1D6B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1447920"/>
            <a:ext cx="7315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e leading edge of a warm air mass that forms as the warm air mass moves forward into a cold air mas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01D-5DCC-4A13-957F-D006E491CB5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2360" y="2926440"/>
            <a:ext cx="759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 warm fron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7C2D-A364-45B2-9B6F-2E0A9FC2A04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29718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It is a prediction of weather condition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0E8-E31E-405D-979B-10955819906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469240"/>
            <a:ext cx="769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 weather forecas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28AB-981C-4457-A847-5D16E0558B8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8195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It is solid precipitation that falls as balls or lumps of ic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990720"/>
            <a:ext cx="7924680" cy="5410080"/>
          </a:xfrm>
          <a:custGeom>
            <a:avLst/>
            <a:gdLst>
              <a:gd name="textAreaLeft" fmla="*/ 350640 w 7924680"/>
              <a:gd name="textAreaRight" fmla="*/ 7574040 w 7924680"/>
              <a:gd name="textAreaTop" fmla="*/ 350640 h 5410080"/>
              <a:gd name="textAreaBottom" fmla="*/ 5059440 h 5410080"/>
            </a:gdLst>
            <a:ahLst/>
            <a:rect l="textAreaLeft" t="textAreaTop" r="textAreaRight" b="textAreaBottom"/>
            <a:pathLst>
              <a:path w="31639" h="21600">
                <a:moveTo>
                  <a:pt x="0" y="0"/>
                </a:moveTo>
                <a:lnTo>
                  <a:pt x="31639" y="0"/>
                </a:lnTo>
                <a:lnTo>
                  <a:pt x="31639" y="21600"/>
                </a:lnTo>
                <a:lnTo>
                  <a:pt x="0" y="21600"/>
                </a:lnTo>
                <a:close/>
              </a:path>
              <a:path fill="lightenLess" w="31639" h="21600">
                <a:moveTo>
                  <a:pt x="0" y="0"/>
                </a:moveTo>
                <a:lnTo>
                  <a:pt x="31639" y="0"/>
                </a:lnTo>
                <a:lnTo>
                  <a:pt x="30239" y="1400"/>
                </a:lnTo>
                <a:lnTo>
                  <a:pt x="1400" y="1400"/>
                </a:lnTo>
                <a:close/>
              </a:path>
              <a:path fill="darken" w="31639" h="21600">
                <a:moveTo>
                  <a:pt x="31639" y="0"/>
                </a:moveTo>
                <a:lnTo>
                  <a:pt x="31639" y="21600"/>
                </a:lnTo>
                <a:lnTo>
                  <a:pt x="30239" y="20200"/>
                </a:lnTo>
                <a:lnTo>
                  <a:pt x="30239" y="1400"/>
                </a:lnTo>
                <a:close/>
              </a:path>
              <a:path fill="darkenLess" w="31639" h="21600">
                <a:moveTo>
                  <a:pt x="3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39" y="20200"/>
                </a:lnTo>
                <a:close/>
              </a:path>
              <a:path fill="lighten" w="3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533520" y="685800"/>
            <a:ext cx="8229600" cy="5791320"/>
          </a:xfrm>
          <a:custGeom>
            <a:avLst/>
            <a:gdLst>
              <a:gd name="textAreaLeft" fmla="*/ 375120 w 8229600"/>
              <a:gd name="textAreaRight" fmla="*/ 7854480 w 8229600"/>
              <a:gd name="textAreaTop" fmla="*/ 375120 h 5791320"/>
              <a:gd name="textAreaBottom" fmla="*/ 5416200 h 5791320"/>
            </a:gdLst>
            <a:ahLst/>
            <a:rect l="textAreaLeft" t="textAreaTop" r="textAreaRight" b="textAreaBottom"/>
            <a:pathLst>
              <a:path w="30694" h="21600">
                <a:moveTo>
                  <a:pt x="0" y="0"/>
                </a:moveTo>
                <a:lnTo>
                  <a:pt x="30694" y="0"/>
                </a:lnTo>
                <a:lnTo>
                  <a:pt x="30694" y="21600"/>
                </a:lnTo>
                <a:lnTo>
                  <a:pt x="0" y="21600"/>
                </a:lnTo>
                <a:close/>
              </a:path>
              <a:path fill="lightenLess" w="30694" h="21600">
                <a:moveTo>
                  <a:pt x="0" y="0"/>
                </a:moveTo>
                <a:lnTo>
                  <a:pt x="30694" y="0"/>
                </a:lnTo>
                <a:lnTo>
                  <a:pt x="29294" y="1400"/>
                </a:lnTo>
                <a:lnTo>
                  <a:pt x="1400" y="1400"/>
                </a:lnTo>
                <a:close/>
              </a:path>
              <a:path fill="darken" w="30694" h="21600">
                <a:moveTo>
                  <a:pt x="30694" y="0"/>
                </a:moveTo>
                <a:lnTo>
                  <a:pt x="30694" y="21600"/>
                </a:lnTo>
                <a:lnTo>
                  <a:pt x="29294" y="20200"/>
                </a:lnTo>
                <a:lnTo>
                  <a:pt x="29294" y="1400"/>
                </a:lnTo>
                <a:close/>
              </a:path>
              <a:path fill="darkenLess" w="30694" h="21600">
                <a:moveTo>
                  <a:pt x="306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94" y="20200"/>
                </a:lnTo>
                <a:close/>
              </a:path>
              <a:path fill="lighten" w="306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F9C-C0F2-40C3-B41B-DDCD5E26295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What is hai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D01-6ED8-4F69-8A12-4AEBBD21F9C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FINAL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JEOPAR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2286000"/>
            <a:ext cx="6629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46A1-6EC8-4144-BEE6-D4C9E7509D2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371600" y="2362320"/>
            <a:ext cx="63244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tluc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0F26-AFDE-4D90-AF88-C3CDBECAC421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9907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state of the atmosphere at a specific time and with respect on life and human activities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533520" y="685800"/>
            <a:ext cx="8229600" cy="5867280"/>
          </a:xfrm>
          <a:custGeom>
            <a:avLst/>
            <a:gdLst>
              <a:gd name="textAreaLeft" fmla="*/ 380160 w 8229600"/>
              <a:gd name="textAreaRight" fmla="*/ 7849440 w 8229600"/>
              <a:gd name="textAreaTop" fmla="*/ 380160 h 5867280"/>
              <a:gd name="textAreaBottom" fmla="*/ 5487120 h 5867280"/>
            </a:gdLst>
            <a:ahLst/>
            <a:rect l="textAreaLeft" t="textAreaTop" r="textAreaRight" b="textAreaBottom"/>
            <a:pathLst>
              <a:path w="30296" h="21600">
                <a:moveTo>
                  <a:pt x="0" y="0"/>
                </a:moveTo>
                <a:lnTo>
                  <a:pt x="30296" y="0"/>
                </a:lnTo>
                <a:lnTo>
                  <a:pt x="30296" y="21600"/>
                </a:lnTo>
                <a:lnTo>
                  <a:pt x="0" y="21600"/>
                </a:lnTo>
                <a:close/>
              </a:path>
              <a:path fill="lightenLess" w="30296" h="21600">
                <a:moveTo>
                  <a:pt x="0" y="0"/>
                </a:moveTo>
                <a:lnTo>
                  <a:pt x="30296" y="0"/>
                </a:lnTo>
                <a:lnTo>
                  <a:pt x="28896" y="1400"/>
                </a:lnTo>
                <a:lnTo>
                  <a:pt x="1400" y="1400"/>
                </a:lnTo>
                <a:close/>
              </a:path>
              <a:path fill="darken" w="30296" h="21600">
                <a:moveTo>
                  <a:pt x="30296" y="0"/>
                </a:moveTo>
                <a:lnTo>
                  <a:pt x="30296" y="21600"/>
                </a:lnTo>
                <a:lnTo>
                  <a:pt x="28896" y="20200"/>
                </a:lnTo>
                <a:lnTo>
                  <a:pt x="28896" y="1400"/>
                </a:lnTo>
                <a:close/>
              </a:path>
              <a:path fill="darkenLess" w="30296" h="21600">
                <a:moveTo>
                  <a:pt x="30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96" y="20200"/>
                </a:lnTo>
                <a:close/>
              </a:path>
              <a:path fill="lighten" w="30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88D8-730E-421F-A541-0B425170B8C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What is weath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BA2-24EC-4282-B94B-FE8E7006922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3938-5F25-4843-876F-A6313BA78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2280" y="228600"/>
            <a:ext cx="1295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eath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strumen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eather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er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124080" y="30492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at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yc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tor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loud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otluck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1320" y="12952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4320" y="2438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4320" y="3581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4320" y="4724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4320" y="5867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7" action="ppaction://hlinksldjump"/>
          </p:cNvPr>
          <p:cNvSpPr/>
          <p:nvPr/>
        </p:nvSpPr>
        <p:spPr>
          <a:xfrm>
            <a:off x="2068200" y="1292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9" action="ppaction://hlinksldjump"/>
          </p:cNvPr>
          <p:cNvSpPr/>
          <p:nvPr/>
        </p:nvSpPr>
        <p:spPr>
          <a:xfrm>
            <a:off x="2077920" y="2435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1" action="ppaction://hlinksldjump"/>
          </p:cNvPr>
          <p:cNvSpPr/>
          <p:nvPr/>
        </p:nvSpPr>
        <p:spPr>
          <a:xfrm>
            <a:off x="2068200" y="3578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2068200" y="4721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5" action="ppaction://hlinksldjump"/>
          </p:cNvPr>
          <p:cNvSpPr/>
          <p:nvPr/>
        </p:nvSpPr>
        <p:spPr>
          <a:xfrm>
            <a:off x="2068200" y="5864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7" action="ppaction://hlinksldjump"/>
          </p:cNvPr>
          <p:cNvSpPr/>
          <p:nvPr/>
        </p:nvSpPr>
        <p:spPr>
          <a:xfrm>
            <a:off x="3592440" y="12794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9" action="ppaction://hlinksldjump"/>
          </p:cNvPr>
          <p:cNvSpPr/>
          <p:nvPr/>
        </p:nvSpPr>
        <p:spPr>
          <a:xfrm>
            <a:off x="3592440" y="2438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1" action="ppaction://hlinksldjump"/>
          </p:cNvPr>
          <p:cNvSpPr/>
          <p:nvPr/>
        </p:nvSpPr>
        <p:spPr>
          <a:xfrm>
            <a:off x="3506760" y="3581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3" action="ppaction://hlinksldjump"/>
          </p:cNvPr>
          <p:cNvSpPr/>
          <p:nvPr/>
        </p:nvSpPr>
        <p:spPr>
          <a:xfrm>
            <a:off x="3592440" y="4721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4" action="ppaction://hlinksldjump"/>
          </p:cNvPr>
          <p:cNvSpPr/>
          <p:nvPr/>
        </p:nvSpPr>
        <p:spPr>
          <a:xfrm>
            <a:off x="3592440" y="5864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5" action="ppaction://hlinksldjump"/>
          </p:cNvPr>
          <p:cNvSpPr/>
          <p:nvPr/>
        </p:nvSpPr>
        <p:spPr>
          <a:xfrm>
            <a:off x="5106960" y="1292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26" action="ppaction://hlinksldjump"/>
          </p:cNvPr>
          <p:cNvSpPr/>
          <p:nvPr/>
        </p:nvSpPr>
        <p:spPr>
          <a:xfrm>
            <a:off x="5106960" y="2435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7" action="ppaction://hlinksldjump"/>
          </p:cNvPr>
          <p:cNvSpPr/>
          <p:nvPr/>
        </p:nvSpPr>
        <p:spPr>
          <a:xfrm>
            <a:off x="5116320" y="3578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8" action="ppaction://hlinksldjump"/>
          </p:cNvPr>
          <p:cNvSpPr/>
          <p:nvPr/>
        </p:nvSpPr>
        <p:spPr>
          <a:xfrm>
            <a:off x="5116320" y="4721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9" action="ppaction://hlinksldjump"/>
          </p:cNvPr>
          <p:cNvSpPr/>
          <p:nvPr/>
        </p:nvSpPr>
        <p:spPr>
          <a:xfrm>
            <a:off x="5116320" y="5864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0" action="ppaction://hlinksldjump"/>
          </p:cNvPr>
          <p:cNvSpPr/>
          <p:nvPr/>
        </p:nvSpPr>
        <p:spPr>
          <a:xfrm>
            <a:off x="6649920" y="1292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1" action="ppaction://hlinksldjump"/>
          </p:cNvPr>
          <p:cNvSpPr/>
          <p:nvPr/>
        </p:nvSpPr>
        <p:spPr>
          <a:xfrm>
            <a:off x="6640200" y="2435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2" action="ppaction://hlinksldjump"/>
          </p:cNvPr>
          <p:cNvSpPr/>
          <p:nvPr/>
        </p:nvSpPr>
        <p:spPr>
          <a:xfrm>
            <a:off x="6649920" y="3578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33" action="ppaction://hlinksldjump"/>
          </p:cNvPr>
          <p:cNvSpPr/>
          <p:nvPr/>
        </p:nvSpPr>
        <p:spPr>
          <a:xfrm>
            <a:off x="6649920" y="4721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34" action="ppaction://hlinksldjump"/>
          </p:cNvPr>
          <p:cNvSpPr/>
          <p:nvPr/>
        </p:nvSpPr>
        <p:spPr>
          <a:xfrm>
            <a:off x="6649920" y="5864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35" action="ppaction://hlinksldjump"/>
          </p:cNvPr>
          <p:cNvSpPr/>
          <p:nvPr/>
        </p:nvSpPr>
        <p:spPr>
          <a:xfrm>
            <a:off x="8173800" y="1292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36" action="ppaction://hlinksldjump"/>
          </p:cNvPr>
          <p:cNvSpPr/>
          <p:nvPr/>
        </p:nvSpPr>
        <p:spPr>
          <a:xfrm>
            <a:off x="8173800" y="2435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37" action="ppaction://hlinksldjump"/>
          </p:cNvPr>
          <p:cNvSpPr/>
          <p:nvPr/>
        </p:nvSpPr>
        <p:spPr>
          <a:xfrm>
            <a:off x="8164440" y="3578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38" action="ppaction://hlinksldjump"/>
          </p:cNvPr>
          <p:cNvSpPr/>
          <p:nvPr/>
        </p:nvSpPr>
        <p:spPr>
          <a:xfrm>
            <a:off x="8173800" y="4721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9" action="ppaction://hlinksldjump"/>
          </p:cNvPr>
          <p:cNvSpPr/>
          <p:nvPr/>
        </p:nvSpPr>
        <p:spPr>
          <a:xfrm>
            <a:off x="8173800" y="5864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40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71600" y="1858680"/>
            <a:ext cx="6467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t is used to measure the direction of the moving ai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EAA0-5E36-4DFC-9E61-9DA2D06D18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 PCS</cp:lastModifiedBy>
  <dcterms:modified xsi:type="dcterms:W3CDTF">2006-11-10T14:40:27Z</dcterms:modified>
  <cp:revision>80</cp:revision>
  <dc:subject/>
  <dc:title>No Slide Title</dc:title>
</cp:coreProperties>
</file>